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182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97769926123067"/>
          <c:y val="0.0756619240554038"/>
          <c:w val="0.631074198137017"/>
          <c:h val="0.84641477433336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980</c:v>
                </c:pt>
                <c:pt idx="1">
                  <c:v>113</c:v>
                </c:pt>
                <c:pt idx="2">
                  <c:v>28</c:v>
                </c:pt>
                <c:pt idx="3">
                  <c:v>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182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97769926123067"/>
          <c:y val="0.0756619240554038"/>
          <c:w val="0.631074198137017"/>
          <c:h val="0.84641477433336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915</c:v>
                </c:pt>
                <c:pt idx="1">
                  <c:v>119</c:v>
                </c:pt>
                <c:pt idx="2">
                  <c:v>28</c:v>
                </c:pt>
                <c:pt idx="3">
                  <c:v>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182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97769926123067"/>
          <c:y val="0.0756619240554038"/>
          <c:w val="0.631074198137017"/>
          <c:h val="0.84641477433336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915</c:v>
                </c:pt>
                <c:pt idx="1">
                  <c:v>126</c:v>
                </c:pt>
                <c:pt idx="2">
                  <c:v>28</c:v>
                </c:pt>
                <c:pt idx="3">
                  <c:v>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AF83-5B03-440A-9690-1D488DD8E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7857-8A74-4EAB-A1E3-7D9D0A39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FFDA-8A84-4139-A679-8DFC6A036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B12A-37FA-4775-B382-38A01DC36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D879-1218-4AD5-8C09-4FBE394C9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757D-63D5-4413-8636-8D4D1191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2AF3-7711-4844-B1F9-06B8BAEB1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EBFA-D905-4AD2-AB15-D4E059302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92CB-218C-4CDC-ACBF-A10229716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3EAE-1B5C-4A9C-951C-D73E81E1D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4DE6-3184-4A1A-8342-D7698FC59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D20E-28DE-4D27-BEB6-0CD1C0AA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0DCC79-C6D5-4954-B86A-69EEA023021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395280" y="0"/>
            <a:ext cx="82296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БЮДЖЕТ ДЛЯ ГРАЖДАН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«</a:t>
            </a:r>
            <a:r>
              <a:rPr b="1" i="1" lang="ru-RU" sz="4200" spc="-1" strike="noStrike">
                <a:solidFill>
                  <a:srgbClr val="ff0000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сельсовет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Касторенского района Курской области» на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23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24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и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25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г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25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-9360" y="2293920"/>
          <a:ext cx="7845120" cy="3821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31280" cy="7775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Курской области на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3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год и на плановый пери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4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и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5 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годов (тыс.руб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295280"/>
          <a:ext cx="8232840" cy="5769000"/>
        </p:xfrm>
        <a:graphic>
          <a:graphicData uri="http://schemas.openxmlformats.org/drawingml/2006/table">
            <a:tbl>
              <a:tblPr/>
              <a:tblGrid>
                <a:gridCol w="2057400"/>
                <a:gridCol w="2060640"/>
                <a:gridCol w="2057400"/>
                <a:gridCol w="2057400"/>
              </a:tblGrid>
              <a:tr h="37476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25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93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86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86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2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Национальная 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0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97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86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86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1371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1371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140760" bIns="46800" anchor="ctr">
                      <a:noAutofit/>
                    </a:bodyPr>
                    <a:p>
                      <a:pPr algn="ctr"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Times New Roman"/>
                          <a:ea typeface="Lucida Sans Unicode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3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6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609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48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48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00040" y="0"/>
            <a:ext cx="8008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«Программная» структура бюджета муниципального образования «Краснодолинский сельсовет»</a:t>
            </a:r>
            <a:r>
              <a:rPr b="1" i="1" lang="ru-RU" sz="1400" spc="-1" strike="noStrike">
                <a:solidFill>
                  <a:srgbClr val="1818d2"/>
                </a:solidFill>
                <a:latin typeface="Arial"/>
                <a:ea typeface="Lucida Sans Unicode"/>
              </a:rPr>
              <a:t>Касторенского района</a:t>
            </a:r>
            <a:r>
              <a:rPr b="1" i="1" lang="ru-RU" sz="14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 Кур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 </a:t>
            </a:r>
            <a:r>
              <a:rPr b="1" i="1" lang="ru-RU" sz="14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в 20</a:t>
            </a:r>
            <a:r>
              <a:rPr b="1" i="1" lang="ru-RU" sz="1400" spc="-1" strike="noStrike">
                <a:solidFill>
                  <a:srgbClr val="1818d2"/>
                </a:solidFill>
                <a:latin typeface="Arial"/>
                <a:ea typeface="Lucida Sans Unicode"/>
              </a:rPr>
              <a:t>23</a:t>
            </a:r>
            <a:r>
              <a:rPr b="1" i="1" lang="ru-RU" sz="14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-2</a:t>
            </a:r>
            <a:r>
              <a:rPr b="1" i="1" lang="ru-RU" sz="1400" spc="-1" strike="noStrike">
                <a:solidFill>
                  <a:srgbClr val="1818d2"/>
                </a:solidFill>
                <a:latin typeface="Arial"/>
                <a:ea typeface="Lucida Sans Unicode"/>
              </a:rPr>
              <a:t>025</a:t>
            </a:r>
            <a:r>
              <a:rPr b="1" i="1" lang="ru-RU" sz="14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 годах (тыс.руб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7120" y="736560"/>
          <a:ext cx="8286840" cy="5927760"/>
        </p:xfrm>
        <a:graphic>
          <a:graphicData uri="http://schemas.openxmlformats.org/drawingml/2006/table">
            <a:tbl>
              <a:tblPr/>
              <a:tblGrid>
                <a:gridCol w="5429160"/>
                <a:gridCol w="1000440"/>
                <a:gridCol w="928440"/>
                <a:gridCol w="928800"/>
              </a:tblGrid>
              <a:tr h="327240">
                <a:tc>
                  <a:txBody>
                    <a:bodyPr lIns="90000" rIns="90000" tIns="13032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032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032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032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205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150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151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.Муниципальная программа «Социальная поддержка граждан в Краснодолинском сельсовете Касторенского района Курской обла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5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5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5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4.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7. Муниципальная программа «Обеспечение доступным и комфортным жильем и коммунальными услугами граждан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97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86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86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8. «Повышение эффективности работы с молодёжью, организация отдыха и оздоровления детей, молодёжи, развитие физической культуры и спор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9. Муниципальная программа  «Развитие муниципальной служб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1. Муниципальная программа  «Развитие транспортной инфраструктуры, обеспечение перевозки пассажиров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43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2. Муниципальная программа «Профилактика правонаруше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3. 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5. Развитие малого и среднего предприниматель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муниципального образования «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Курской области (тыс.руб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280" y="1600200"/>
          <a:ext cx="9072720" cy="5259240"/>
        </p:xfrm>
        <a:graphic>
          <a:graphicData uri="http://schemas.openxmlformats.org/drawingml/2006/table">
            <a:tbl>
              <a:tblPr/>
              <a:tblGrid>
                <a:gridCol w="5143680"/>
                <a:gridCol w="1214280"/>
                <a:gridCol w="1357560"/>
                <a:gridCol w="1357200"/>
              </a:tblGrid>
              <a:tr h="64440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93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86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86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6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Lucida Sans Unicode"/>
                        </a:rPr>
                        <a:t>76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Lucida Sans Unicode"/>
                        </a:rPr>
                        <a:t>76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7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64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64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12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 финансовых, налоговых и таможенных органов и органов финансового (финансово-бюджетного) надз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  <a:ea typeface="Lucida Sans Unicode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  <a:ea typeface="Lucida Sans Unicode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0800" y="872280"/>
            <a:ext cx="2736720" cy="439236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2916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  <a:ea typeface="Lucida Sans Unicode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долинского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долин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476280"/>
            <a:ext cx="82803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Основные параметры бюджета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муниципального образования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асторенского района 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Курской области на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3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год и плановый период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4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-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5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г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4880" cy="4254480"/>
        </p:xfrm>
        <a:graphic>
          <a:graphicData uri="http://schemas.openxmlformats.org/drawingml/2006/table">
            <a:tbl>
              <a:tblPr/>
              <a:tblGrid>
                <a:gridCol w="2670120"/>
                <a:gridCol w="1568520"/>
                <a:gridCol w="1560600"/>
                <a:gridCol w="2555640"/>
              </a:tblGrid>
              <a:tr h="68580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76212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09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8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8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28592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4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9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84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81900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09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8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8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70164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023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4960" cy="4456080"/>
            <a:chOff x="179280" y="1844640"/>
            <a:chExt cx="8454960" cy="445608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38160" y="2602440"/>
              <a:ext cx="894600" cy="296784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H="1" flipV="1" rot="5400000">
              <a:off x="3959640" y="4086000"/>
              <a:ext cx="894600" cy="108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78600" y="2606760"/>
              <a:ext cx="894600" cy="295992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Group 7"/>
            <p:cNvGrpSpPr/>
            <p:nvPr/>
          </p:nvGrpSpPr>
          <p:grpSpPr>
            <a:xfrm>
              <a:off x="3108240" y="1844640"/>
              <a:ext cx="2594160" cy="1825560"/>
              <a:chOff x="3108240" y="1844640"/>
              <a:chExt cx="2594160" cy="1825560"/>
            </a:xfrm>
          </p:grpSpPr>
          <p:pic>
            <p:nvPicPr>
              <p:cNvPr id="106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416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9"/>
              <p:cNvSpPr/>
              <p:nvPr/>
            </p:nvSpPr>
            <p:spPr>
              <a:xfrm>
                <a:off x="3225960" y="1959120"/>
                <a:ext cx="235872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6092,5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10"/>
            <p:cNvSpPr/>
            <p:nvPr/>
          </p:nvSpPr>
          <p:spPr>
            <a:xfrm>
              <a:off x="17928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4744,4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313992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6102360" y="4533840"/>
              <a:ext cx="253188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1348,1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24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4960" cy="4456080"/>
            <a:chOff x="179280" y="1844640"/>
            <a:chExt cx="8454960" cy="445608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38160" y="2602440"/>
              <a:ext cx="894600" cy="296784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H="1" flipV="1" rot="5400000">
              <a:off x="3959640" y="4086000"/>
              <a:ext cx="894600" cy="108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78600" y="2606760"/>
              <a:ext cx="894600" cy="295992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Group 7"/>
            <p:cNvGrpSpPr/>
            <p:nvPr/>
          </p:nvGrpSpPr>
          <p:grpSpPr>
            <a:xfrm>
              <a:off x="3108240" y="1844640"/>
              <a:ext cx="2594160" cy="1825560"/>
              <a:chOff x="3108240" y="1844640"/>
              <a:chExt cx="2594160" cy="1825560"/>
            </a:xfrm>
          </p:grpSpPr>
          <p:pic>
            <p:nvPicPr>
              <p:cNvPr id="11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416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9"/>
              <p:cNvSpPr/>
              <p:nvPr/>
            </p:nvSpPr>
            <p:spPr>
              <a:xfrm>
                <a:off x="3225960" y="1959120"/>
                <a:ext cx="235872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5484,8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0"/>
            <p:cNvSpPr/>
            <p:nvPr/>
          </p:nvSpPr>
          <p:spPr>
            <a:xfrm>
              <a:off x="17928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4793,4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313992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2"/>
            <p:cNvSpPr/>
            <p:nvPr/>
          </p:nvSpPr>
          <p:spPr>
            <a:xfrm>
              <a:off x="6102360" y="4533840"/>
              <a:ext cx="253188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691,4 тыс.руб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» на 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25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4960" cy="4456080"/>
            <a:chOff x="179280" y="1844640"/>
            <a:chExt cx="8454960" cy="445608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38160" y="2602440"/>
              <a:ext cx="894600" cy="296784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H="1" flipV="1" rot="5400000">
              <a:off x="3959640" y="4086000"/>
              <a:ext cx="894600" cy="108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78600" y="2606760"/>
              <a:ext cx="894600" cy="295992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Group 7"/>
            <p:cNvGrpSpPr/>
            <p:nvPr/>
          </p:nvGrpSpPr>
          <p:grpSpPr>
            <a:xfrm>
              <a:off x="3108240" y="1844640"/>
              <a:ext cx="2594160" cy="1825560"/>
              <a:chOff x="3108240" y="1844640"/>
              <a:chExt cx="2594160" cy="1825560"/>
            </a:xfrm>
          </p:grpSpPr>
          <p:pic>
            <p:nvPicPr>
              <p:cNvPr id="130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416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9"/>
              <p:cNvSpPr/>
              <p:nvPr/>
            </p:nvSpPr>
            <p:spPr>
              <a:xfrm>
                <a:off x="3225960" y="1959120"/>
                <a:ext cx="235872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5489,6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10"/>
            <p:cNvSpPr/>
            <p:nvPr/>
          </p:nvSpPr>
          <p:spPr>
            <a:xfrm>
              <a:off x="17928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4840,2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13992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0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2"/>
            <p:cNvSpPr/>
            <p:nvPr/>
          </p:nvSpPr>
          <p:spPr>
            <a:xfrm>
              <a:off x="6102360" y="4533840"/>
              <a:ext cx="253188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  <a:ea typeface="Lucida Sans Unicode"/>
                </a:rPr>
                <a:t>649,4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647640" y="-712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3240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Структура налоговых и неналоговых (собственных) доходов бюджета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муниципального образования 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сельсовет»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на 20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  <a:ea typeface="Lucida Sans Unicode"/>
              </a:rPr>
              <a:t>23 </a:t>
            </a: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-9360" y="2293920"/>
          <a:ext cx="7845120" cy="3821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24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-9360" y="2293920"/>
          <a:ext cx="7845120" cy="3821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3-05-24T20:10:15Z</dcterms:modified>
  <cp:revision>79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