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7.png" ContentType="image/png"/>
  <Override PartName="/ppt/media/image5.png" ContentType="image/png"/>
  <Override PartName="/ppt/media/image10.jpeg" ContentType="image/jpeg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182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97769926123067"/>
          <c:y val="0.0756619240554038"/>
          <c:w val="0.631074198137017"/>
          <c:h val="0.84641477433336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980</c:v>
                </c:pt>
                <c:pt idx="1">
                  <c:v>113</c:v>
                </c:pt>
                <c:pt idx="2">
                  <c:v>28</c:v>
                </c:pt>
                <c:pt idx="3">
                  <c:v>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182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97769926123067"/>
          <c:y val="0.0756619240554038"/>
          <c:w val="0.631074198137017"/>
          <c:h val="0.84641477433336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915</c:v>
                </c:pt>
                <c:pt idx="1">
                  <c:v>119</c:v>
                </c:pt>
                <c:pt idx="2">
                  <c:v>28</c:v>
                </c:pt>
                <c:pt idx="3">
                  <c:v>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182"/>
      <c:rAngAx val="1"/>
      <c:perspective val="10"/>
    </c:view3D>
    <c:floor>
      <c:spPr>
        <a:solidFill>
          <a:srgbClr val="cccccc"/>
        </a:solidFill>
        <a:ln w="0">
          <a:noFill/>
        </a:ln>
      </c:spPr>
    </c:floor>
    <c:sideWall>
      <c:spPr>
        <a:noFill/>
        <a:ln w="0">
          <a:solidFill>
            <a:srgbClr val="b3b3b3"/>
          </a:solidFill>
        </a:ln>
      </c:spPr>
    </c:sideWall>
    <c:backWall>
      <c:spPr>
        <a:noFill/>
        <a:ln w="0">
          <a:solidFill>
            <a:srgbClr val="b3b3b3"/>
          </a:solidFill>
        </a:ln>
      </c:spPr>
    </c:backWall>
    <c:plotArea>
      <c:layout>
        <c:manualLayout>
          <c:layoutTarget val="inner"/>
          <c:xMode val="edge"/>
          <c:yMode val="edge"/>
          <c:x val="0.0197769926123067"/>
          <c:y val="0.0756619240554038"/>
          <c:w val="0.631074198137017"/>
          <c:h val="0.84641477433336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Столбец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numFmt formatCode="General" sourceLinked="1"/>
            <c:dLbl>
              <c:idx val="0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1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2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dLbl>
              <c:idx val="3"/>
              <c:numFmt formatCode="General" sourceLinked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3915</c:v>
                </c:pt>
                <c:pt idx="1">
                  <c:v>126</c:v>
                </c:pt>
                <c:pt idx="2">
                  <c:v>28</c:v>
                </c:pt>
                <c:pt idx="3">
                  <c:v>6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Столбец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0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Столбец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4586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420e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d320"/>
              </a:solidFill>
              <a:ln w="0">
                <a:noFill/>
              </a:ln>
            </c:spPr>
          </c:dPt>
          <c:dPt>
            <c:idx val="3"/>
            <c:spPr>
              <a:solidFill>
                <a:srgbClr val="579d1c"/>
              </a:solidFill>
              <a:ln w="0">
                <a:noFill/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</c:dLbls>
          <c:cat>
            <c:strRef>
              <c:f>categories</c:f>
              <c:strCache>
                <c:ptCount val="4"/>
                <c:pt idx="0">
                  <c:v>Земельный налог</c:v>
                </c:pt>
                <c:pt idx="1">
                  <c:v>НДФЛ</c:v>
                </c:pt>
                <c:pt idx="2">
                  <c:v>Единый с/х налог</c:v>
                </c:pt>
                <c:pt idx="3">
                  <c:v>Налог на имущество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0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</c:pie3DChart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1" sz="14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9D501-7123-47EE-8669-EA6706318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D97F-AD2F-4E48-8451-08847AC52A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B6EC-C0FA-4E36-B544-BDE3073B9B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59D0F-F99F-452A-8F0D-248C9EC42F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7A6C4-BB26-4D4E-8CE5-8268CC19D4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2604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06520" y="193824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59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2604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06520" y="4192200"/>
            <a:ext cx="245700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9EE00-CAB4-4917-AECE-E4762D2F0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0D8D7-14CE-42F8-BCD3-48286580F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F12A3-E92C-48F2-8844-A462CC5AEB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635040"/>
            <a:ext cx="780264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B5DAF-49DB-444C-A431-D49BCC4FA4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14A5-2FE2-488B-82E2-E334CF7CB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6240" y="419220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C6F41-4EE6-4763-91FC-87EBC2A6DF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592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6240" y="1938240"/>
            <a:ext cx="372384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5920" y="4192200"/>
            <a:ext cx="7630920" cy="20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19EBC-B688-44F1-ABDC-50CA2215F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312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27240" cy="4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E50DC-7B53-4AA8-A517-DB3BFB08078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71400" y="635040"/>
            <a:ext cx="7802640" cy="11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31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31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45920" y="1938240"/>
            <a:ext cx="763092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chart" Target="../charts/chart1.xml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chart" Target="../charts/chart2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5280" y="0"/>
            <a:ext cx="82296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1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БЮДЖЕТ ДЛЯ ГРАЖДАН</a:t>
            </a:r>
            <a:br>
              <a:rPr sz="31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муниципального образования 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«</a:t>
            </a:r>
            <a:r>
              <a:rPr b="1" i="1" lang="ru-RU" sz="4200" spc="-1" strike="noStrike">
                <a:solidFill>
                  <a:srgbClr val="ff0000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42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сельсовет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Касторенского района Курской области» на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22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г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и на плановый период </a:t>
            </a:r>
            <a:br>
              <a:rPr sz="3600"/>
            </a:b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23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и 20</a:t>
            </a:r>
            <a:r>
              <a:rPr b="1" i="1" lang="ru-RU" sz="3600" spc="-1" strike="noStrike">
                <a:solidFill>
                  <a:srgbClr val="ff0000"/>
                </a:solidFill>
                <a:latin typeface="Arial"/>
                <a:ea typeface="Lucida Sans Unicode"/>
              </a:rPr>
              <a:t>24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  <a:ea typeface="Lucida Sans Unicode"/>
              </a:rPr>
              <a:t> год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9528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24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-9360" y="2293920"/>
          <a:ext cx="7845120" cy="3821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31280" cy="7775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240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Расходы бюджета муниципального образования 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асторенского района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Курской области на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2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год и на плановый период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3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и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4 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годов (тыс.руб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68360" y="1295280"/>
          <a:ext cx="8232480" cy="6010200"/>
        </p:xfrm>
        <a:graphic>
          <a:graphicData uri="http://schemas.openxmlformats.org/drawingml/2006/table">
            <a:tbl>
              <a:tblPr/>
              <a:tblGrid>
                <a:gridCol w="2057760"/>
                <a:gridCol w="2059200"/>
                <a:gridCol w="2057760"/>
                <a:gridCol w="2057760"/>
              </a:tblGrid>
              <a:tr h="33516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Показатели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22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23 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24год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3202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75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704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08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Национальная </a:t>
                      </a: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Times New Roman"/>
                        </a:rPr>
                        <a:t>оборона</a:t>
                      </a: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92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95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98,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Национальная 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844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Национальная  эконом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58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824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0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89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80">
                <a:tc>
                  <a:txBody>
                    <a:bodyPr lIns="90000" rIns="90000" tIns="1371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Культу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72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986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061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1371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Социальная политик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8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9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120">
                <a:tc>
                  <a:txBody>
                    <a:bodyPr lIns="90000" rIns="90000" tIns="13716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Физическая культура и 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140760" bIns="46800" anchor="ctr">
                      <a:noAutofit/>
                    </a:bodyPr>
                    <a:p>
                      <a:pPr algn="ctr">
                        <a:lnSpc>
                          <a:spcPct val="7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Times New Roman"/>
                          <a:ea typeface="Lucida Sans Unicode"/>
                        </a:rPr>
                        <a:t>Условно утвержденные расходы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103,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20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118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6719,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4237,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2560" bIns="46800" anchor="ctr">
                      <a:noAutofit/>
                    </a:bodyPr>
                    <a:p>
                      <a:pPr algn="ctr">
                        <a:lnSpc>
                          <a:spcPct val="76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200" spc="-1" strike="noStrike">
                          <a:solidFill>
                            <a:srgbClr val="ce181e"/>
                          </a:solidFill>
                          <a:latin typeface="Arial"/>
                          <a:ea typeface="Lucida Sans Unicode"/>
                        </a:rPr>
                        <a:t>4249,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9600" y="1368360"/>
            <a:ext cx="9144000" cy="7704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58720" y="392040"/>
            <a:ext cx="8008920" cy="9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«Программная» структура бюджета муниципального образования «Краснодолинский сельсовет»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  <a:ea typeface="Lucida Sans Unicode"/>
              </a:rPr>
              <a:t>Касторенского района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 Курской области в 20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  <a:ea typeface="Lucida Sans Unicode"/>
              </a:rPr>
              <a:t>22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-2</a:t>
            </a:r>
            <a:r>
              <a:rPr b="1" i="1" lang="ru-RU" sz="1600" spc="-1" strike="noStrike">
                <a:solidFill>
                  <a:srgbClr val="1818d2"/>
                </a:solidFill>
                <a:latin typeface="Arial"/>
                <a:ea typeface="Lucida Sans Unicode"/>
              </a:rPr>
              <a:t>024</a:t>
            </a:r>
            <a:r>
              <a:rPr b="1" i="1" lang="ru-RU" sz="1600" spc="-1" strike="noStrike">
                <a:solidFill>
                  <a:srgbClr val="1818d2"/>
                </a:solidFill>
                <a:latin typeface="Georgia"/>
                <a:ea typeface="Lucida Sans Unicode"/>
              </a:rPr>
              <a:t> годах (тыс.руб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600" y="1752480"/>
          <a:ext cx="9175320" cy="7287840"/>
        </p:xfrm>
        <a:graphic>
          <a:graphicData uri="http://schemas.openxmlformats.org/drawingml/2006/table">
            <a:tbl>
              <a:tblPr/>
              <a:tblGrid>
                <a:gridCol w="6068160"/>
                <a:gridCol w="1083240"/>
                <a:gridCol w="1006200"/>
                <a:gridCol w="1017720"/>
              </a:tblGrid>
              <a:tr h="720000">
                <a:tc>
                  <a:txBody>
                    <a:bodyPr lIns="90000" rIns="90000" tIns="13032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032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032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30320" bIns="46800" anchor="ctr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Расходы на реализацию муниципальных программ, в том числе: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2972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138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1448,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 . Муниципальная программа «Развитие культур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17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986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ts val="1174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Times New Roman"/>
                        </a:rPr>
                        <a:t>1061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.Муниципальная программа «Социальная поддержка граждан в Краснодолинском сельсовете Касторенского района Курской област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4.Муниципальная программа «Управление муниципальным имуществом и земельными ресурсами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3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7. Муниципальная программа «Обеспечение доступным и комфортным жильем и коммунальными услугами граждан»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824,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89,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8. «Повышение эффективности работы с молодёжью, организация отдыха и оздоровления детей, молодёжи, развитие физической культуры и спорт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9. Муниципальная программа  «Развитие муниципальной службы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2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1. Муниципальная программа  «Развитие транспортной инфраструктуры, обеспечение перевозки пассажиров и безопасности дорожного движения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45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2. Муниципальная программа «Профилактика правонарушений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5880">
                <a:tc>
                  <a:txBody>
                    <a:bodyPr lIns="90000" rIns="90000" tIns="130320" bIns="46800" anchor="t">
                      <a:noAutofit/>
                    </a:bodyPr>
                    <a:p>
                      <a:pPr>
                        <a:lnSpc>
                          <a:spcPct val="82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3. Муниципальная программа «Защита населения и территорий от чрезвычайных ситуаций, обеспечение пожарной безопасности и безопасности людей на водных объектах»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2640">
                <a:tc>
                  <a:txBody>
                    <a:bodyPr lIns="90000" rIns="90000" tIns="10008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5. Развитие малого и среднего предпринимательст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008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ce181e"/>
                          </a:solidFill>
                          <a:latin typeface="Georgia"/>
                          <a:ea typeface="Lucida Sans Unicode"/>
                        </a:rPr>
                        <a:t>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Расходы на общегосударственные вопросы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муниципального образования «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 сельсовет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асторенского района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Курской области (тыс.руб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1280" y="1600200"/>
          <a:ext cx="9001080" cy="5260680"/>
        </p:xfrm>
        <a:graphic>
          <a:graphicData uri="http://schemas.openxmlformats.org/drawingml/2006/table">
            <a:tbl>
              <a:tblPr/>
              <a:tblGrid>
                <a:gridCol w="5446440"/>
                <a:gridCol w="1258920"/>
                <a:gridCol w="1179720"/>
                <a:gridCol w="1116000"/>
              </a:tblGrid>
              <a:tr h="65052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щегосударственные вопросы, все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3202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755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270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176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функционирования главы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732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Lucida Sans Unicode"/>
                        </a:rPr>
                        <a:t>732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468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2400" spc="-1" strike="noStrike">
                          <a:solidFill>
                            <a:srgbClr val="ff0066"/>
                          </a:solidFill>
                          <a:latin typeface="Times New Roman"/>
                          <a:ea typeface="Lucida Sans Unicode"/>
                        </a:rPr>
                        <a:t>732,9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00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администрации муниципального образова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435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34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1347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404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Обеспечение деятельности  финансовых, налоговых и таможенных органов и органов финансового (финансово-бюджетного) надзор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49,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8880"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Georgia"/>
                          <a:ea typeface="Lucida Sans Unicode"/>
                        </a:rPr>
                        <a:t>Другие общегосударственные вопрос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983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624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0066"/>
                          </a:solidFill>
                          <a:latin typeface="Arial"/>
                          <a:ea typeface="Lucida Sans Unicode"/>
                        </a:rPr>
                        <a:t>574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  <a:ea typeface="Lucida Sans Unicode"/>
              </a:rPr>
              <a:t>Муниципальный бюджет – это форма</a:t>
            </a:r>
            <a:br>
              <a:rPr sz="2200"/>
            </a:br>
            <a:r>
              <a:rPr b="1" i="1" lang="ru-RU" sz="2200" spc="-1" strike="noStrike">
                <a:solidFill>
                  <a:srgbClr val="000066"/>
                </a:solidFill>
                <a:latin typeface="Georgia"/>
                <a:ea typeface="Lucida Sans Unicode"/>
              </a:rPr>
              <a:t> образования и расходования денежных средств, предназначенных для финансового обеспечения задач и функций органов местного самоуправления</a:t>
            </a:r>
            <a:br>
              <a:rPr sz="2200"/>
            </a:b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6200000">
            <a:off x="1000800" y="872280"/>
            <a:ext cx="2736720" cy="4392360"/>
          </a:xfrm>
          <a:prstGeom prst="horizontalScroll">
            <a:avLst>
              <a:gd name="adj" fmla="val 12500"/>
            </a:avLst>
          </a:prstGeom>
          <a:solidFill>
            <a:srgbClr val="efc7e4">
              <a:alpha val="50000"/>
            </a:srgbClr>
          </a:solidFill>
          <a:ln cap="sq"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о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оступающ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в бюджет денеж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 в ви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логовых , неналоговых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безвозмездных поступл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5429160" y="907920"/>
            <a:ext cx="2736720" cy="4321080"/>
          </a:xfrm>
          <a:prstGeom prst="horizontalScroll">
            <a:avLst>
              <a:gd name="adj" fmla="val 12500"/>
            </a:avLst>
          </a:prstGeom>
          <a:solidFill>
            <a:srgbClr val="abbafb">
              <a:alpha val="50000"/>
            </a:srgbClr>
          </a:solidFill>
          <a:ln cap="sq"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Расходы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денеж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средства, направляем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на финансовое обеспеч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задач и функций орган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местного самоуправл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4653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f8bda6">
              <a:alpha val="50000"/>
            </a:srgbClr>
          </a:solidFill>
          <a:ln cap="sq"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Де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расходов бюджета над его доходам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8360" y="5661000"/>
            <a:ext cx="8353440" cy="863640"/>
          </a:xfrm>
          <a:prstGeom prst="horizontalScroll">
            <a:avLst>
              <a:gd name="adj" fmla="val 12500"/>
            </a:avLst>
          </a:prstGeom>
          <a:solidFill>
            <a:srgbClr val="b4faa4">
              <a:alpha val="50000"/>
            </a:srgbClr>
          </a:solidFill>
          <a:ln cap="sq"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Профицит бюдж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  <a:ea typeface="Lucida Sans Unicode"/>
              </a:rPr>
              <a:t> – превышение доходов бюджета над его расхода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a50021"/>
                </a:solidFill>
                <a:latin typeface="Georgia"/>
                <a:ea typeface="Lucida Sans Unicode"/>
              </a:rPr>
              <a:t>Составление бюджета основывается на:</a:t>
            </a:r>
            <a:r>
              <a:rPr b="1" i="1" lang="ru-RU" sz="2400" spc="-1" strike="noStrike">
                <a:solidFill>
                  <a:srgbClr val="99284c"/>
                </a:solidFill>
                <a:latin typeface="Arial"/>
                <a:ea typeface="Lucida Sans Unicod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1844640"/>
            <a:ext cx="4608360" cy="2160720"/>
          </a:xfrm>
          <a:custGeom>
            <a:avLst/>
            <a:gdLst>
              <a:gd name="textAreaLeft" fmla="*/ 576000 w 4608360"/>
              <a:gd name="textAreaRight" fmla="*/ 4032360 w 460836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2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м послан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езиден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оссийской Федер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0" y="184464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3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Основных направлен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бюджетной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налоговой поли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06920" y="4437000"/>
            <a:ext cx="4537080" cy="2160720"/>
          </a:xfrm>
          <a:custGeom>
            <a:avLst/>
            <a:gdLst>
              <a:gd name="textAreaLeft" fmla="*/ 567000 w 4537080"/>
              <a:gd name="textAreaRight" fmla="*/ 3970080 w 453708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4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Муниципальных программ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Администраци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долинского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ельсове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437000"/>
            <a:ext cx="4572000" cy="2160720"/>
          </a:xfrm>
          <a:custGeom>
            <a:avLst/>
            <a:gdLst>
              <a:gd name="textAreaLeft" fmla="*/ 571320 w 4572000"/>
              <a:gd name="textAreaRight" fmla="*/ 4000680 w 4572000"/>
              <a:gd name="textAreaTop" fmla="*/ 540000 h 2160720"/>
              <a:gd name="textAreaBottom" fmla="*/ 201384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498571"/>
                <a:lnTo>
                  <a:pt x="2700" y="20129"/>
                </a:lnTo>
                <a:arcTo wR="21600" hR="20153" stAng="6806385" swAng="-2812770"/>
                <a:lnTo>
                  <a:pt x="18900" y="17429"/>
                </a:lnTo>
                <a:arcTo wR="21600" hR="20153" stAng="3993615" swAng="-498571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976834"/>
                <a:lnTo>
                  <a:pt x="16200" y="4760"/>
                </a:lnTo>
                <a:arcTo wR="21600" hR="20153" stAng="4471878" swAng="1856244"/>
                <a:lnTo>
                  <a:pt x="5400" y="2060"/>
                </a:lnTo>
                <a:arcTo wR="21600" hR="20153" stAng="6328122" swAng="976834"/>
                <a:lnTo>
                  <a:pt x="2700" y="9329"/>
                </a:lnTo>
                <a:close/>
              </a:path>
              <a:path fill="none" w="21600" h="21600">
                <a:moveTo>
                  <a:pt x="5400" y="4760"/>
                </a:moveTo>
                <a:arcTo wR="21600" hR="20153" stAng="6328122" swAng="478263"/>
                <a:lnTo>
                  <a:pt x="5400" y="2060"/>
                </a:lnTo>
              </a:path>
              <a:path fill="none" w="21600" h="21600">
                <a:moveTo>
                  <a:pt x="16200" y="4760"/>
                </a:moveTo>
                <a:arcTo wR="21600" hR="20153" stAng="4471878" swAng="-478263"/>
                <a:lnTo>
                  <a:pt x="16200" y="2060"/>
                </a:lnTo>
              </a:path>
              <a:path fill="none" w="21600" h="21600">
                <a:moveTo>
                  <a:pt x="2700" y="17429"/>
                </a:moveTo>
                <a:lnTo>
                  <a:pt x="2700" y="3929"/>
                </a:lnTo>
              </a:path>
              <a:path fill="none" w="21600" h="21600">
                <a:moveTo>
                  <a:pt x="18900" y="17429"/>
                </a:moveTo>
                <a:lnTo>
                  <a:pt x="18900" y="3929"/>
                </a:lnTo>
              </a:path>
            </a:pathLst>
          </a:custGeom>
          <a:blipFill rotWithShape="0">
            <a:blip r:embed="rId5">
              <a:alphaModFix amt="49000"/>
            </a:blip>
            <a:srcRect/>
            <a:tile tx="0" ty="0" sx="100000" sy="100000" algn="ctr"/>
          </a:blipFill>
          <a:ln cap="sq"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Прогноз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оциально-экономиче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 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развития М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«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  <a:ea typeface="Lucida Sans Unicode"/>
              </a:rPr>
              <a:t>Краснодолин</a:t>
            </a: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ки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Georgia"/>
                <a:ea typeface="Lucida Sans Unicode"/>
              </a:rPr>
              <a:t>сельсовет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03280" y="476280"/>
            <a:ext cx="8280360" cy="15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Основные параметры бюджета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муниципального образования </a:t>
            </a:r>
            <a:br>
              <a:rPr sz="2000"/>
            </a:b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«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сельсовет» 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Касторенского района 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Курской области на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2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год и плановый период 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3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-20</a:t>
            </a:r>
            <a:r>
              <a:rPr b="1" i="1" lang="ru-RU" sz="2000" spc="-1" strike="noStrike">
                <a:solidFill>
                  <a:srgbClr val="da102d"/>
                </a:solidFill>
                <a:latin typeface="Arial"/>
                <a:ea typeface="Lucida Sans Unicode"/>
              </a:rPr>
              <a:t>24</a:t>
            </a:r>
            <a:r>
              <a:rPr b="1" i="1" lang="ru-RU" sz="2000" spc="-1" strike="noStrike">
                <a:solidFill>
                  <a:srgbClr val="da102d"/>
                </a:solidFill>
                <a:latin typeface="Georgia"/>
                <a:ea typeface="Lucida Sans Unicode"/>
              </a:rPr>
              <a:t> год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2205000"/>
          <a:ext cx="8354520" cy="4255920"/>
        </p:xfrm>
        <a:graphic>
          <a:graphicData uri="http://schemas.openxmlformats.org/drawingml/2006/table">
            <a:tbl>
              <a:tblPr/>
              <a:tblGrid>
                <a:gridCol w="2670480"/>
                <a:gridCol w="1567080"/>
                <a:gridCol w="1560600"/>
                <a:gridCol w="2556360"/>
              </a:tblGrid>
              <a:tr h="68580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Наименовани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2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3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5408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20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24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 го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6248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о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1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4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128664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В том числе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собственные доходы (тыс.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34,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150,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81936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Расходы – всего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(тыс. рублей)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6719,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37,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4249,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  <a:tr h="701640">
                <a:tc>
                  <a:txBody>
                    <a:bodyPr lIns="90000" rIns="90000" tIns="160200" bIns="46800" anchor="ctr">
                      <a:noAutofit/>
                    </a:bodyPr>
                    <a:p>
                      <a:pPr algn="ctr">
                        <a:lnSpc>
                          <a:spcPct val="82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900" spc="-1" strike="noStrike">
                          <a:solidFill>
                            <a:srgbClr val="000000"/>
                          </a:solidFill>
                          <a:latin typeface="Georgia"/>
                          <a:ea typeface="Lucida Sans Unicode"/>
                        </a:rPr>
                        <a:t>Дефицит местного бюджета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168120" bIns="46800" anchor="ctr">
                      <a:noAutofit/>
                    </a:bodyPr>
                    <a:p>
                      <a:pPr algn="ctr">
                        <a:lnSpc>
                          <a:spcPct val="78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Lucida Sans Unicode"/>
                        </a:rPr>
                        <a:t>0,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3399"/>
                        </a:gs>
                        <a:gs pos="50000">
                          <a:srgbClr val="bbe0e3"/>
                        </a:gs>
                        <a:gs pos="100000">
                          <a:srgbClr val="333399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022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9280" y="1844640"/>
            <a:ext cx="8454960" cy="4456080"/>
            <a:chOff x="179280" y="1844640"/>
            <a:chExt cx="8454960" cy="4456080"/>
          </a:xfrm>
        </p:grpSpPr>
        <p:cxnSp>
          <p:nvCxnSpPr>
            <p:cNvPr id="99" name=""/>
            <p:cNvCxnSpPr>
              <a:stCxn id="100" idx="0"/>
            </p:cNvCxnSpPr>
            <p:nvPr/>
          </p:nvCxnSpPr>
          <p:spPr>
            <a:xfrm flipV="1" rot="16200000">
              <a:off x="5438160" y="2602440"/>
              <a:ext cx="894600" cy="296784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1" name=""/>
            <p:cNvCxnSpPr>
              <a:stCxn id="102" idx="0"/>
            </p:cNvCxnSpPr>
            <p:nvPr/>
          </p:nvCxnSpPr>
          <p:spPr>
            <a:xfrm flipH="1" flipV="1" rot="5400000">
              <a:off x="3959640" y="4086000"/>
              <a:ext cx="894600" cy="108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03" name=""/>
            <p:cNvCxnSpPr>
              <a:stCxn id="104" idx="0"/>
            </p:cNvCxnSpPr>
            <p:nvPr/>
          </p:nvCxnSpPr>
          <p:spPr>
            <a:xfrm flipH="1" flipV="1" rot="5400000">
              <a:off x="2478600" y="2606760"/>
              <a:ext cx="894600" cy="295992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05" name=""/>
            <p:cNvGrpSpPr/>
            <p:nvPr/>
          </p:nvGrpSpPr>
          <p:grpSpPr>
            <a:xfrm>
              <a:off x="3108240" y="1844640"/>
              <a:ext cx="2594160" cy="1825560"/>
              <a:chOff x="3108240" y="1844640"/>
              <a:chExt cx="2594160" cy="1825560"/>
            </a:xfrm>
          </p:grpSpPr>
          <p:pic>
            <p:nvPicPr>
              <p:cNvPr id="10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416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3225960" y="1959120"/>
                <a:ext cx="235872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6719,9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>
              <a:off x="17928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4121,4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3992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3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102360" y="4533840"/>
              <a:ext cx="253188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2585,3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сельсовет» на 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23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79280" y="1844640"/>
            <a:ext cx="8454960" cy="4456080"/>
            <a:chOff x="179280" y="1844640"/>
            <a:chExt cx="8454960" cy="4456080"/>
          </a:xfrm>
        </p:grpSpPr>
        <p:cxnSp>
          <p:nvCxnSpPr>
            <p:cNvPr id="111" name=""/>
            <p:cNvCxnSpPr>
              <a:stCxn id="112" idx="0"/>
            </p:cNvCxnSpPr>
            <p:nvPr/>
          </p:nvCxnSpPr>
          <p:spPr>
            <a:xfrm flipV="1" rot="16200000">
              <a:off x="5438160" y="2602440"/>
              <a:ext cx="894600" cy="296784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3" name=""/>
            <p:cNvCxnSpPr>
              <a:stCxn id="114" idx="0"/>
            </p:cNvCxnSpPr>
            <p:nvPr/>
          </p:nvCxnSpPr>
          <p:spPr>
            <a:xfrm flipH="1" flipV="1" rot="5400000">
              <a:off x="3959640" y="4086000"/>
              <a:ext cx="894600" cy="108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15" name=""/>
            <p:cNvCxnSpPr>
              <a:stCxn id="116" idx="0"/>
            </p:cNvCxnSpPr>
            <p:nvPr/>
          </p:nvCxnSpPr>
          <p:spPr>
            <a:xfrm flipH="1" flipV="1" rot="5400000">
              <a:off x="2478600" y="2606760"/>
              <a:ext cx="894600" cy="295992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17" name=""/>
            <p:cNvGrpSpPr/>
            <p:nvPr/>
          </p:nvGrpSpPr>
          <p:grpSpPr>
            <a:xfrm>
              <a:off x="3108240" y="1844640"/>
              <a:ext cx="2594160" cy="1825560"/>
              <a:chOff x="3108240" y="1844640"/>
              <a:chExt cx="2594160" cy="1825560"/>
            </a:xfrm>
          </p:grpSpPr>
          <p:pic>
            <p:nvPicPr>
              <p:cNvPr id="11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416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3225960" y="1959120"/>
                <a:ext cx="235872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4237,5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17928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4128,8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92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Arial"/>
                  <a:ea typeface="Lucida Sans Unicode"/>
                </a:rPr>
                <a:t>13,2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102360" y="4533840"/>
              <a:ext cx="253188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95,5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Доходы бюджета муниципального образования «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Краснодолинский сельсовет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» на 20</a:t>
            </a:r>
            <a:r>
              <a:rPr b="1" i="1" lang="ru-RU" sz="3000" spc="-1" strike="noStrike">
                <a:solidFill>
                  <a:srgbClr val="c61e0c"/>
                </a:solidFill>
                <a:latin typeface="Arial"/>
                <a:ea typeface="Lucida Sans Unicode"/>
              </a:rPr>
              <a:t>24</a:t>
            </a:r>
            <a:r>
              <a:rPr b="1" i="1" lang="ru-RU" sz="3000" spc="-1" strike="noStrike">
                <a:solidFill>
                  <a:srgbClr val="c61e0c"/>
                </a:solidFill>
                <a:latin typeface="Georgia"/>
                <a:ea typeface="Lucida Sans Unicode"/>
              </a:rPr>
              <a:t> год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79280" y="1844640"/>
            <a:ext cx="8454960" cy="4456080"/>
            <a:chOff x="179280" y="1844640"/>
            <a:chExt cx="8454960" cy="4456080"/>
          </a:xfrm>
        </p:grpSpPr>
        <p:cxnSp>
          <p:nvCxnSpPr>
            <p:cNvPr id="123" name=""/>
            <p:cNvCxnSpPr>
              <a:stCxn id="124" idx="0"/>
            </p:cNvCxnSpPr>
            <p:nvPr/>
          </p:nvCxnSpPr>
          <p:spPr>
            <a:xfrm flipV="1" rot="16200000">
              <a:off x="5438160" y="2602440"/>
              <a:ext cx="894600" cy="296784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>
              <a:stCxn id="126" idx="0"/>
            </p:cNvCxnSpPr>
            <p:nvPr/>
          </p:nvCxnSpPr>
          <p:spPr>
            <a:xfrm flipH="1" flipV="1" rot="5400000">
              <a:off x="3959640" y="4086000"/>
              <a:ext cx="894600" cy="108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>
              <a:stCxn id="128" idx="0"/>
            </p:cNvCxnSpPr>
            <p:nvPr/>
          </p:nvCxnSpPr>
          <p:spPr>
            <a:xfrm flipH="1" flipV="1" rot="5400000">
              <a:off x="2478600" y="2606760"/>
              <a:ext cx="894600" cy="2959920"/>
            </a:xfrm>
            <a:prstGeom prst="bentConnector3">
              <a:avLst>
                <a:gd name="adj1" fmla="val 63969"/>
              </a:avLst>
            </a:prstGeom>
            <a:ln cap="sq" w="28440">
              <a:solidFill>
                <a:srgbClr val="000000"/>
              </a:solidFill>
              <a:miter/>
            </a:ln>
          </p:spPr>
        </p:cxnSp>
        <p:grpSp>
          <p:nvGrpSpPr>
            <p:cNvPr id="129" name=""/>
            <p:cNvGrpSpPr/>
            <p:nvPr/>
          </p:nvGrpSpPr>
          <p:grpSpPr>
            <a:xfrm>
              <a:off x="3108240" y="1844640"/>
              <a:ext cx="2594160" cy="1825560"/>
              <a:chOff x="3108240" y="1844640"/>
              <a:chExt cx="2594160" cy="1825560"/>
            </a:xfrm>
          </p:grpSpPr>
          <p:pic>
            <p:nvPicPr>
              <p:cNvPr id="1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08240" y="1844640"/>
                <a:ext cx="2594160" cy="1825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" name=""/>
              <p:cNvSpPr/>
              <p:nvPr/>
            </p:nvSpPr>
            <p:spPr>
              <a:xfrm>
                <a:off x="3225960" y="1959120"/>
                <a:ext cx="2358720" cy="159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Доходы (всего)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1" lang="ru-RU" sz="2200" spc="-1" strike="noStrike">
                    <a:solidFill>
                      <a:srgbClr val="000066"/>
                    </a:solidFill>
                    <a:latin typeface="Georgia"/>
                    <a:ea typeface="Lucida Sans Unicode"/>
                  </a:rPr>
                  <a:t>4249,2 тыс.руб.</a:t>
                </a:r>
                <a:endParaRPr b="0" lang="en-US" sz="2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8" name=""/>
            <p:cNvSpPr/>
            <p:nvPr/>
          </p:nvSpPr>
          <p:spPr>
            <a:xfrm>
              <a:off x="17928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3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алоговые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4137,1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139920" y="4533840"/>
              <a:ext cx="253224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4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Неналогов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дохо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13,2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02360" y="4533840"/>
              <a:ext cx="2531880" cy="1766880"/>
            </a:xfrm>
            <a:prstGeom prst="roundRect">
              <a:avLst>
                <a:gd name="adj" fmla="val 16667"/>
              </a:avLst>
            </a:prstGeom>
            <a:blipFill rotWithShape="0">
              <a:blip r:embed="rId5">
                <a:alphaModFix amt="50000"/>
              </a:blip>
              <a:srcRect/>
              <a:tile tx="0" ty="0" sx="100000" sy="100000" algn="ctr"/>
            </a:blipFill>
            <a:ln cap="sq" w="44280">
              <a:solidFill>
                <a:srgbClr val="690ac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Безвозмездные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 </a:t>
              </a: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поступ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000066"/>
                  </a:solidFill>
                  <a:latin typeface="Georgia"/>
                  <a:ea typeface="Lucida Sans Unicode"/>
                </a:rPr>
                <a:t>98,9 тыс.руб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-647640" y="-7128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2400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Структура налоговых и неналоговых (собственных) доходов бюджета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муниципального образования «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сельсовет» </a:t>
            </a:r>
            <a:br>
              <a:rPr sz="2400"/>
            </a:b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на 20</a:t>
            </a:r>
            <a:r>
              <a:rPr b="1" i="1" lang="ru-RU" sz="2400" spc="-1" strike="noStrike">
                <a:solidFill>
                  <a:srgbClr val="0033cc"/>
                </a:solidFill>
                <a:latin typeface="Arial"/>
                <a:ea typeface="Lucida Sans Unicode"/>
              </a:rPr>
              <a:t>22 </a:t>
            </a:r>
            <a:r>
              <a:rPr b="1" i="1" lang="ru-RU" sz="24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го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-9360" y="2293920"/>
          <a:ext cx="7845120" cy="3821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-684360" y="260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324000" y="69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Структура налоговых и неналоговых (собственных) доходов бюджета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муниципального образования «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Краснодолинский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 сельсовет» </a:t>
            </a:r>
            <a:br>
              <a:rPr sz="2800"/>
            </a:b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на 20</a:t>
            </a:r>
            <a:r>
              <a:rPr b="1" i="1" lang="ru-RU" sz="2800" spc="-1" strike="noStrike">
                <a:solidFill>
                  <a:srgbClr val="0033cc"/>
                </a:solidFill>
                <a:latin typeface="Arial"/>
                <a:ea typeface="Lucida Sans Unicode"/>
              </a:rPr>
              <a:t>23</a:t>
            </a:r>
            <a:r>
              <a:rPr b="1" i="1" lang="ru-RU" sz="2800" spc="-1" strike="noStrike">
                <a:solidFill>
                  <a:srgbClr val="0033cc"/>
                </a:solidFill>
                <a:latin typeface="Georgia"/>
                <a:ea typeface="Lucida Sans Unicode"/>
              </a:rPr>
              <a:t>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-9360" y="2293920"/>
          <a:ext cx="7845120" cy="38210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9T18:34:03Z</dcterms:created>
  <dc:creator>Admin</dc:creator>
  <dc:description/>
  <dc:language>en-US</dc:language>
  <cp:lastModifiedBy/>
  <dcterms:modified xsi:type="dcterms:W3CDTF">2022-02-25T21:53:26Z</dcterms:modified>
  <cp:revision>75</cp:revision>
  <dc:subject/>
  <dc:title>БЮДЖЕТ ДЛЯ ГРАЖДАН     муниципального образования «Стакановский сельсовет» Черемисиновского района Курской области на 2015 год  и на плановый период  2016 и 2017 годов</dc:title>
</cp:coreProperties>
</file>