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833-AB57-4563-8B5A-2F379002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360-9C20-4B91-A516-B14ADD01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D621-254D-4534-B0A2-161D0EF2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BA3-255B-4A3C-B308-87EFE6D5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1F3-9652-4AE8-85D4-98770B5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5CC-55B1-476B-98A9-07714F5B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227-E798-4859-9BB0-A2F13DF3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113F-8EF4-4306-BB98-FF4B1C72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AE7-188D-44E4-BEF5-59E69010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7B9-301D-4A5E-8D62-9EA7059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3FF-1B86-4532-8AB7-642B68C3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6B0-C6FE-42D4-B072-ABE9C6ED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10B076-EAF6-4A7A-AFD0-D4DCC9DB652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ru-RU" sz="4200" spc="-1" strike="noStrike">
                <a:solidFill>
                  <a:srgbClr val="ff0000"/>
                </a:solidFill>
                <a:latin typeface="Arial"/>
              </a:rPr>
              <a:t>Краснодолинский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 сельсовет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Касторенского района Курской области» на 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и 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долинский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23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0" name="Object 3" descr=""/>
          <p:cNvPicPr/>
          <p:nvPr/>
        </p:nvPicPr>
        <p:blipFill>
          <a:blip r:embed="rId2"/>
          <a:stretch/>
        </p:blipFill>
        <p:spPr>
          <a:xfrm>
            <a:off x="-973080" y="1409760"/>
            <a:ext cx="10414080" cy="54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сельсовет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21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год и на плановый период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22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и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23 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годов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125360"/>
          <a:ext cx="8231040" cy="66279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86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23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46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9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2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9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9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28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27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4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7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Times New Roman"/>
                          <a:ea typeface="Lucida Sans Unicode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8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6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447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29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29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Краснодолинский сельсовет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21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-2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023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500120"/>
          <a:ext cx="8858160" cy="6858000"/>
        </p:xfrm>
        <a:graphic>
          <a:graphicData uri="http://schemas.openxmlformats.org/drawingml/2006/table">
            <a:tbl>
              <a:tblPr/>
              <a:tblGrid>
                <a:gridCol w="6156360"/>
                <a:gridCol w="936720"/>
                <a:gridCol w="934920"/>
                <a:gridCol w="830160"/>
              </a:tblGrid>
              <a:tr h="50472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92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61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67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28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27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134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2.Муниципальная программа «Социальная поддержка граждан в Краснодолинском сельсовете Касторенского района Курской облас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7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7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7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4.Муниципальная программа «Управление муниципальным имуществом и земельными ресурс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7. Муниципальная программа «Обеспечение доступным и комфортным жильем и коммунальными услугами граждан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8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«Повышение эффективности работы с молодёжью, организация отдыха и оздоровления детей, молодёжи, развитие физической культуры и спор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9. Муниципальная программа  «Развитие муниципальной служб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12. Муниципальная программа «Профилактика правонарушени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13. 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15. Развитие малого и среднего предприниматель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1,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31040" cy="542124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46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59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52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3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6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6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17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5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5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8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 финансовых, налоговых и таможенных органов и органов финансового (финансово-бюджетного) надз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9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2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4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Администр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Краснодолинского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«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Краснодолин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долинский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сельсовет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21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 и плановый период 20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22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-20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23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47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9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9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2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59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6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47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9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329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сельсовет» на 2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021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4472,3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2528,1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944,2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сельсовет» на 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22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18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3295,7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2593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702,7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» на 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23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23" name="AutoShape 4"/>
            <p:cNvCxnSpPr>
              <a:stCxn id="124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AutoShape 5"/>
            <p:cNvCxnSpPr>
              <a:stCxn id="126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AutoShape 6"/>
            <p:cNvCxnSpPr>
              <a:stCxn id="128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3290,6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2640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0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650,6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долинский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21 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4" name="Object 3" descr=""/>
          <p:cNvPicPr/>
          <p:nvPr/>
        </p:nvPicPr>
        <p:blipFill>
          <a:blip r:embed="rId2"/>
          <a:stretch/>
        </p:blipFill>
        <p:spPr>
          <a:xfrm>
            <a:off x="-888840" y="1413000"/>
            <a:ext cx="10032840" cy="699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долинский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22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7" name="Object 3" descr=""/>
          <p:cNvPicPr/>
          <p:nvPr/>
        </p:nvPicPr>
        <p:blipFill>
          <a:blip r:embed="rId2"/>
          <a:stretch/>
        </p:blipFill>
        <p:spPr>
          <a:xfrm>
            <a:off x="-851040" y="1413000"/>
            <a:ext cx="99950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21-05-30T19:24:45Z</dcterms:modified>
  <cp:revision>72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