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934-755B-4CAC-92E7-E9DB0CC8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213-39CA-4BB9-8F97-6477903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37B-C020-45D1-8FC7-D7227C7B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95B-A5DD-4DF9-A8C8-70A9BC13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5CA-53BD-4CDA-901A-84C7917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119-10CC-4711-B5E0-DBF4D0C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71D-F04F-4414-85EB-DA04126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479-F554-463F-9275-834BF35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505-5B5E-458D-8DA3-4CC0864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F3D-50B5-4391-BEC4-C37829F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E98-C0AD-4CBA-BE75-A16F13D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823-C073-405E-A4C7-DCBB0D83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34DDBD-3BDC-4F6A-A1CF-1968E0A3AB0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i="1" lang="ru-RU" sz="42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0" i="1" lang="ru-RU" sz="4200" spc="-1" strike="noStrike">
                <a:solidFill>
                  <a:srgbClr val="ff0000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0" i="1" lang="ru-RU" sz="4200" spc="-1" strike="noStrike">
                <a:solidFill>
                  <a:srgbClr val="ff0000"/>
                </a:solidFill>
                <a:latin typeface="Georgia"/>
              </a:rPr>
              <a:t>»</a:t>
            </a:r>
            <a:r>
              <a:rPr b="0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016 год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Администрации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раснодолинского сельсо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«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раснодолинский сельсовет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на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2016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799128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532116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6,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6,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6,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016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2646,12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306,5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0,0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339,5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ий сельсовет Касторенского района Курской области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-612720" y="1916280"/>
          <a:ext cx="999468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916280"/>
                    <a:ext cx="9994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долинский сельсовет 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н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2016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567640" cy="5040360"/>
        </p:xfrm>
        <a:graphic>
          <a:graphicData uri="http://schemas.openxmlformats.org/drawingml/2006/table">
            <a:tbl>
              <a:tblPr/>
              <a:tblGrid>
                <a:gridCol w="2057400"/>
                <a:gridCol w="651024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5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5,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646,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долинский сельсовет 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в 2016 году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137440" cy="6627960"/>
        </p:xfrm>
        <a:graphic>
          <a:graphicData uri="http://schemas.openxmlformats.org/drawingml/2006/table">
            <a:tbl>
              <a:tblPr/>
              <a:tblGrid>
                <a:gridCol w="6386400"/>
                <a:gridCol w="1751040"/>
              </a:tblGrid>
              <a:tr h="57636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729,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Times New Roman"/>
                        </a:rPr>
                        <a:t>1 . Муниципальная программа «Развитие культуры в 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5,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Обеспечение доступным и комфортным жильем и коммунальными услугами граждан» МО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Краснодолинский сельсовет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Повышение эффективности работы с молодежью ,организация отдыха и оздоровление детей ,молодежи, развитие физической культуры и спорта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 «Развитие муниципальной службы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 в МО «Краснодолинский сельсовет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урской области «Управление муниципальным имуществом и земельными ресурсами в МО «Краснодолинский сельсовет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Муниципальная  программа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Развитие малого и среднего предпринимательства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доли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» на 2016 год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77868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2806920"/>
              </a:tblGrid>
              <a:tr h="6980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6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85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3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0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Admin</cp:lastModifiedBy>
  <dcterms:modified xsi:type="dcterms:W3CDTF">2016-02-24T07:46:43Z</dcterms:modified>
  <cp:revision>4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