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jpeg" ContentType="image/jpeg"/>
  <Override PartName="/ppt/media/image1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5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13.jpeg" ContentType="image/jpeg"/>
  <Override PartName="/ppt/media/image6.jpeg" ContentType="image/jpeg"/>
  <Override PartName="/ppt/media/image8.png" ContentType="image/png"/>
  <Override PartName="/ppt/media/image4.png" ContentType="image/png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BF9-77DD-47AE-950B-260986E9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3D51-3CA2-403E-8597-868EA904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18C-A2A0-43F9-ADE0-326FE806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52A6-0F50-4DC8-A070-A5327292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742A-5162-461E-BC26-2CC00215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748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9040" y="193788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62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748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9040" y="4193640"/>
            <a:ext cx="24580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9769-1E81-4709-8545-791E1307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DE9F-C360-4AF5-90EC-FF3621F9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545-C0A4-4505-9E0A-89443593D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040" y="635040"/>
            <a:ext cx="78058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8DE5-3AD0-4F12-ACC3-E5A27D360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DF9C-35E1-47E3-A5E1-8AE8B55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8040" y="419364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D6C3-7517-4281-822F-505E7D09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628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8040" y="1937880"/>
            <a:ext cx="372528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6280" y="4193640"/>
            <a:ext cx="7634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CDBE-DE3B-4AD0-8AD5-15FA1B5F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818894-9870-491A-AE31-DE04F9287EBA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040" y="635040"/>
            <a:ext cx="7805880" cy="11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6280" y="1937880"/>
            <a:ext cx="76341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«</a:t>
            </a:r>
            <a:r>
              <a:rPr b="1" i="1" lang="ru-RU" sz="4200" spc="-1" strike="noStrike">
                <a:solidFill>
                  <a:srgbClr val="ff0000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</a:rPr>
              <a:t>»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на 2015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2016 и 2017 годов</a:t>
            </a:r>
            <a:endParaRPr b="1" i="1" lang="en-US" sz="36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ие «Краснодолинский сельсовет Касторенского района Курской области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7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-469800" y="2324160"/>
          <a:ext cx="9435960" cy="424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9800" y="2324160"/>
                    <a:ext cx="943596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долинский сельсовет 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»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на 2015 год и на плановый период 2016 и 2017 годов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68360" y="1125360"/>
          <a:ext cx="8231040" cy="5040360"/>
        </p:xfrm>
        <a:graphic>
          <a:graphicData uri="http://schemas.openxmlformats.org/drawingml/2006/table">
            <a:tbl>
              <a:tblPr/>
              <a:tblGrid>
                <a:gridCol w="2057400"/>
                <a:gridCol w="2058840"/>
                <a:gridCol w="2057400"/>
                <a:gridCol w="2057400"/>
              </a:tblGrid>
              <a:tr h="3938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5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6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2017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35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115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969,7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Microsoft YaHei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70,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6,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6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26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46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0,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,4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,5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0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  <a:ea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17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216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3333cc"/>
                          </a:solidFill>
                          <a:latin typeface="Times New Roman"/>
                          <a:ea typeface="Microsoft YaHei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94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  <a:ea typeface="Microsoft YaHei"/>
                        </a:rPr>
                        <a:t>                  </a:t>
                      </a:r>
                      <a:r>
                        <a:rPr b="0" lang="ru-RU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7,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6948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Georgia"/>
                          <a:ea typeface="Microsoft YaHei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59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3053,7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70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2873,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583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«Программная» структура бюджета муниципального образования «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Краснодолинский сельсовет 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Курской области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</a:rPr>
              <a:t>»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</a:rPr>
              <a:t> в 2015-2017 годах (тыс.руб.)</a:t>
            </a:r>
            <a:endParaRPr b="1" i="1" lang="en-US" sz="16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324000" y="620640"/>
          <a:ext cx="8820000" cy="7091280"/>
        </p:xfrm>
        <a:graphic>
          <a:graphicData uri="http://schemas.openxmlformats.org/drawingml/2006/table">
            <a:tbl>
              <a:tblPr/>
              <a:tblGrid>
                <a:gridCol w="6386400"/>
                <a:gridCol w="844560"/>
                <a:gridCol w="760320"/>
                <a:gridCol w="828720"/>
              </a:tblGrid>
              <a:tr h="576360"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50,9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105,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860,2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36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Microsoft JhengHei"/>
                          <a:ea typeface="Times New Roman"/>
                        </a:rPr>
                        <a:t>1 . Муниципальная программа «Развитие культуры в 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33cc"/>
                          </a:solidFill>
                          <a:latin typeface="Arial"/>
                        </a:rPr>
                        <a:t>803,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Обеспечение доступным и комфортным жильем и коммунальными услугами граждан» МО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Краснодолинский сельсовет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2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46,0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796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3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Повышение эффективности работы с молодежью ,организация отдыха и оздоровление детей ,молодежи, развитие физической культуры и спорта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,4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1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7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4440">
                <a:tc>
                  <a:txBody>
                    <a:bodyPr lIns="90000" rIns="90000" tIns="7344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4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 Муниципальная программа  «Развитие муниципальной службы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</a:rPr>
                        <a:t> в МО «Краснодолинский сельсовет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5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Microsoft YaHei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Times New Roman"/>
                          <a:ea typeface="Times New Roman"/>
                        </a:rPr>
                        <a:t>Муниципальная программа Курской области «Управление муниципальным имуществом и земельными ресурсами в МО «Краснодолинский сельсовет»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3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229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7344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Arial"/>
                        </a:rPr>
                        <a:t>1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Муниципальная  программа «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Развитие малого и среднего предпринимательства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4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Microsoft YaHei"/>
                        </a:rPr>
                        <a:t>.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</a:t>
                      </a:r>
                      <a:r>
                        <a:rPr b="0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 в МО «Краснодолинский сельсовет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cc99"/>
                          </a:solidFill>
                          <a:latin typeface="Georgia"/>
                          <a:ea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раснодолинский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</a:rPr>
              <a:t> Курской области» (тыс.руб.)</a:t>
            </a:r>
            <a:endParaRPr b="1" i="1" lang="en-US" sz="2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600200"/>
          <a:ext cx="8231040" cy="3840120"/>
        </p:xfrm>
        <a:graphic>
          <a:graphicData uri="http://schemas.openxmlformats.org/drawingml/2006/table">
            <a:tbl>
              <a:tblPr/>
              <a:tblGrid>
                <a:gridCol w="4979880"/>
                <a:gridCol w="1152720"/>
                <a:gridCol w="1079280"/>
                <a:gridCol w="1019160"/>
              </a:tblGrid>
              <a:tr h="6980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935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2115,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1969,7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68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5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5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405,9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14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14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14,9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5840"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Microsoft YaHei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14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894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748,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1" i="1" lang="en-US" sz="22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4" name="AutoShape 3"/>
          <p:cNvSpPr/>
          <p:nvPr/>
        </p:nvSpPr>
        <p:spPr>
          <a:xfrm rot="16200000">
            <a:off x="1004040" y="872280"/>
            <a:ext cx="2736720" cy="439272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 rot="16200000">
            <a:off x="543240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5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0" name="AutoShape 3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Бюджетном послан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Президент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Российской Федер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Основных направлени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бюджетной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налоговой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Муниципальных программа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Администрации 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раснодолинского сельсове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Georgia"/>
              </a:rPr>
              <a:t>Прогноз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социально-экономиче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развития М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«</a:t>
            </a: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раснодолинский сельсовет </a:t>
            </a:r>
            <a:r>
              <a:rPr b="1" lang="ru-RU" sz="1200" spc="-1" strike="noStrike">
                <a:solidFill>
                  <a:srgbClr val="ff0066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28036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Основные параметры бюджета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муниципального образования </a:t>
            </a:r>
            <a:br>
              <a:rPr sz="2400"/>
            </a:b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«</a:t>
            </a:r>
            <a:r>
              <a:rPr b="1" i="1" lang="ru-RU" sz="2400" spc="-1" strike="noStrike">
                <a:solidFill>
                  <a:srgbClr val="da102d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2400" spc="-1" strike="noStrike">
                <a:solidFill>
                  <a:srgbClr val="da102d"/>
                </a:solidFill>
                <a:latin typeface="Georgia"/>
              </a:rPr>
              <a:t>» на 2015 год и плановый период 2016-2017 годов</a:t>
            </a:r>
            <a:endParaRPr b="1" i="1" lang="en-US" sz="24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3440" cy="4253040"/>
        </p:xfrm>
        <a:graphic>
          <a:graphicData uri="http://schemas.openxmlformats.org/drawingml/2006/table">
            <a:tbl>
              <a:tblPr/>
              <a:tblGrid>
                <a:gridCol w="2670120"/>
                <a:gridCol w="1566720"/>
                <a:gridCol w="1560600"/>
                <a:gridCol w="2556000"/>
              </a:tblGrid>
              <a:tr h="700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5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6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2017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3332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9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3,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31148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7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42,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7,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3484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9,7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3,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73,9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673200">
                <a:tc>
                  <a:txBody>
                    <a:bodyPr lIns="90000" rIns="90000" tIns="828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.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81000" bIns="46800" anchor="ctr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Microsoft YaHei"/>
                        </a:rPr>
                        <a:t>.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5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99" name="AutoShape 4"/>
            <p:cNvCxnSpPr>
              <a:stCxn id="100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AutoShape 5"/>
            <p:cNvCxnSpPr>
              <a:stCxn id="102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AutoShape 6"/>
            <p:cNvCxnSpPr>
              <a:stCxn id="104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06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3059,75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07,0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0,0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52,75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6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11" name="AutoShape 4"/>
            <p:cNvCxnSpPr>
              <a:stCxn id="112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AutoShape 5"/>
            <p:cNvCxnSpPr>
              <a:stCxn id="114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AutoShape 6"/>
            <p:cNvCxnSpPr>
              <a:stCxn id="116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18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3053,75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42,33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0,0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11,42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» на 201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</a:rPr>
              <a:t>7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9280" y="1844640"/>
            <a:ext cx="8458200" cy="4458960"/>
            <a:chOff x="179280" y="1844640"/>
            <a:chExt cx="8458200" cy="4458960"/>
          </a:xfrm>
        </p:grpSpPr>
        <p:cxnSp>
          <p:nvCxnSpPr>
            <p:cNvPr id="123" name="AutoShape 4"/>
            <p:cNvCxnSpPr>
              <a:stCxn id="124" idx="0"/>
            </p:cNvCxnSpPr>
            <p:nvPr/>
          </p:nvCxnSpPr>
          <p:spPr>
            <a:xfrm flipV="1" rot="16200000">
              <a:off x="5442480" y="2605680"/>
              <a:ext cx="891720" cy="296460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AutoShape 5"/>
            <p:cNvCxnSpPr>
              <a:stCxn id="126" idx="0"/>
            </p:cNvCxnSpPr>
            <p:nvPr/>
          </p:nvCxnSpPr>
          <p:spPr>
            <a:xfrm flipV="1" rot="16200000">
              <a:off x="3962520" y="4087440"/>
              <a:ext cx="891720" cy="1080"/>
            </a:xfrm>
            <a:prstGeom prst="bentConnector2">
              <a:avLst/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AutoShape 6"/>
            <p:cNvCxnSpPr>
              <a:stCxn id="128" idx="0"/>
            </p:cNvCxnSpPr>
            <p:nvPr/>
          </p:nvCxnSpPr>
          <p:spPr>
            <a:xfrm flipH="1" flipV="1" rot="5400000">
              <a:off x="2481480" y="2608200"/>
              <a:ext cx="891720" cy="2959560"/>
            </a:xfrm>
            <a:prstGeom prst="bentConnector3">
              <a:avLst>
                <a:gd name="adj1" fmla="val 49757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AutoShape 7"/>
            <p:cNvGrpSpPr/>
            <p:nvPr/>
          </p:nvGrpSpPr>
          <p:grpSpPr>
            <a:xfrm>
              <a:off x="3108240" y="1844640"/>
              <a:ext cx="2597400" cy="1829520"/>
              <a:chOff x="3108240" y="1844640"/>
              <a:chExt cx="2597400" cy="1829520"/>
            </a:xfrm>
          </p:grpSpPr>
          <p:pic>
            <p:nvPicPr>
              <p:cNvPr id="130" name="AutoShap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7400" cy="182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6320" y="1958760"/>
                <a:ext cx="2361960" cy="15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Arial"/>
                  </a:rPr>
                  <a:t>2873,98</a:t>
                </a: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</a:rPr>
                  <a:t>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AutoShape 8"/>
            <p:cNvSpPr/>
            <p:nvPr/>
          </p:nvSpPr>
          <p:spPr>
            <a:xfrm>
              <a:off x="17928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2807,00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9"/>
            <p:cNvSpPr/>
            <p:nvPr/>
          </p:nvSpPr>
          <p:spPr>
            <a:xfrm>
              <a:off x="3139920" y="4533840"/>
              <a:ext cx="253548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0,00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10"/>
            <p:cNvSpPr/>
            <p:nvPr/>
          </p:nvSpPr>
          <p:spPr>
            <a:xfrm>
              <a:off x="6102360" y="4533840"/>
              <a:ext cx="2535120" cy="176976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</a:rPr>
                <a:t>66,98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</a:rPr>
                <a:t>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-900000" y="260280"/>
            <a:ext cx="9144000" cy="6851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кий сельсовет Касторенского района Курской области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5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4" name="Object 3"/>
          <p:cNvGraphicFramePr/>
          <p:nvPr/>
        </p:nvGraphicFramePr>
        <p:xfrm>
          <a:off x="0" y="1820880"/>
          <a:ext cx="9144000" cy="503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0880"/>
                    <a:ext cx="9144000" cy="50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</a:rPr>
              <a:t>Краснодолинсий сельсовет Касторенского района Курской области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</a:rPr>
              <a:t>на 2016 год</a:t>
            </a:r>
            <a:endParaRPr b="1" i="1" lang="en-US" sz="28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138" name="Object 3"/>
          <p:cNvGraphicFramePr/>
          <p:nvPr/>
        </p:nvGraphicFramePr>
        <p:xfrm>
          <a:off x="-612720" y="2060640"/>
          <a:ext cx="9994680" cy="426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612720" y="2060640"/>
                    <a:ext cx="999468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>Admin</cp:lastModifiedBy>
  <dcterms:modified xsi:type="dcterms:W3CDTF">2015-10-14T11:56:15Z</dcterms:modified>
  <cp:revision>42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